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0D4-D558-4357-AD35-80036982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16A-4629-4643-B8C1-DDAF4951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305-6AB7-4683-9772-D643FBCF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7A5-2708-4132-85CD-41FD9744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009-FA4E-4997-BB0D-E4DE1492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E79-E61B-4157-9440-3CCA5056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CDC-25A6-43D4-918E-B69D38AD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7A4-418C-4703-A676-C424941B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BC5-7D35-4581-8451-4D4C14F6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756-8155-464F-A690-532C305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6AE-45DB-4F94-8B38-69EB72F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3E9-0756-452F-BE78-A972FA90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928D-044A-4196-BA06-3E49C707F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15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ybridation so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 d’un protopl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chim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Méthode éléctr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séquences de la fusion des protoplas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chim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Par des substances chimiques tel que l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olyéthylène glycol(PEG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molécule hydrosolubles qui entoure la périphérie du protoplaste et masque ainsi les charges éléctriques  les protoplastes n’ont plus de difficultés à se rapprocher les uns des autres et dans les cas les plus favorables à fusio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méthode électrique quant à elle débu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alternati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ans le milieu de culture. Ceci va favoriser l’alignement des protoplastes en chapelet. La fusion est induite ensuite par l’application d’u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rant contin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éthode éléct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fusion entre deux protaplastes donnant des hybrides est dit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ybridation somatiqu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7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.S. CARLSON obtient le premie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bride somatiqu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spécifique pa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sion de</a:t>
            </a:r>
            <a:r>
              <a:rPr b="1" lang="ar-D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plast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différentes espè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1600200"/>
            <a:ext cx="8991720" cy="495288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mi les premières démonstrations de fusion entre des protoplastes différents est la </a:t>
            </a: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qui constitue un hybride entre la tomate et la pomme de terre par fusion de leur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omat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4191120" cy="655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648320" y="0"/>
            <a:ext cx="41907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1599840"/>
            <a:ext cx="861048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a fusion des protoplastes se fait au hasard,on peut donc obtenir une fusion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omplèt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parti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s partenaires fusionnés peuvent avoir la même origine càd même espèce on parle d’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’union de protoplastes différents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est dite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 hétérofus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arfois des compétitions apparaissent et donnent pour conséquence l’élimination de certains territoires cellulaire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’un des noyau peut être éliminé et on obtient alors un 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hybride cytoplasmiqu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fr-FR" sz="3600" spc="-1" strike="noStrike">
                <a:solidFill>
                  <a:srgbClr val="cc0000"/>
                </a:solidFill>
                <a:latin typeface="Arial"/>
              </a:rPr>
              <a:t> cybrid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cybride ne contient que l’un des génomes plus les deux garnitures cytoplasm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équences de la 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La résultante de cette fusion est un spectre de structures génétiques très variables aptes à se régénérer sous forme de sujets entier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protopl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486400" cy="563868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protoplaste est une Cellule végétale dont la paroi pectocellulosique a été enlevée par digestion enzymatique ou autre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protoplastes  peuvent être obtenus à partir de n'importe quel tissu végétal, mais ce sont généralement les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arenchymes des jeunes feuil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i sont utilisés pour leur prépa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3429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solement et obtention des protopla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971800" y="6491160"/>
            <a:ext cx="3429000" cy="36828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tent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496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09480" y="6216120"/>
            <a:ext cx="8046000" cy="6426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'obtention de protoplaste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éparer les tissus végétaux pour obtenir une suspension de protopl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echnique d’isolement des protopl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isolement se fait en milieu hypertonique par rapport au milieu vacuolai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tachement de la paro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gradation de la paroi par traitement enzyma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limination des enzymes par lav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égère centrifugation ou fil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lacer dans un milieu de culture spécif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duction des premières divisions en présence des auxines et des cytokinines de même concent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btention de 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r de ces protoplastes, il est possible d'obtenir de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uvelles pla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i les conditions de milieu sont favora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 paroi végétale se reconstit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tes cellulaires se réarrang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es cellules entrent en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lles donnent ainsi naissance à des microcolonies, puis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érés sur un milieu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DZ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als se développent en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mbryons somat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 donneront des plantu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6019920"/>
          </a:xfrm>
          <a:prstGeom prst="rect">
            <a:avLst/>
          </a:prstGeom>
          <a:solidFill>
            <a:srgbClr val="f4f9a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SA" sz="3200" spc="-1" strike="noStrike">
                <a:solidFill>
                  <a:srgbClr val="cc0000"/>
                </a:solidFill>
                <a:latin typeface="Arial"/>
              </a:rPr>
              <a:t>'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1" i="1" lang="fr-FR" sz="3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bridation</a:t>
            </a:r>
            <a:r>
              <a:rPr b="1" i="1" lang="ar-SA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somat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La propriété la plus importante d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plas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leur capacité à fusionner entre eux lorsqu'ils sont placés dans un milieu approprié. Cette technique permet de surmonter les barrières liées à la reproduction sexuée et de créer de nouvelles combinaisons ent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ya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ransformation génét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fait de l'absence de l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aroi pectocellulosiqu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introduction directe de l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es cellules est facilité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9a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fusion des protopla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culture des protoplastes est devenue surtout intéressante lorsque le progrés technique a permet leur fusion suivie de la regénération des produits de fusion ,il fallait pour cela réduire et mêm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l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 première approc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s charges éléctriqu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ésentes et qui les maintient à distance les uns des au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x méthodes sont utilis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4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